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A2202-DA99-4932-BBA6-D6318B600D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C983-F980-4ACF-BEA2-E49A98DB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39B5-BF91-41AB-AF34-A06CD005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499A-1714-4034-92F1-5EEAD56EEF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DB3EA-AB47-4D6E-8950-731FDFA5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02D98-2C5E-47B1-B5C9-16134A3B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C4F5F-2041-4690-98D7-B06A011F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F2513-DD57-4320-B550-8168013C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607F4-F003-4FE9-BCBA-A81BF6DB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4F12-7043-422E-B631-B30A51B9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3DD11-F53B-4E12-A149-87D30E4F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0D09-CBA7-452F-9CB2-0FA15C82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EA56-40BD-488B-82D5-C85E3DB213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48592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水 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生机制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血管内外液体交换平衡失调示意图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36407" t="38555" r="12047" b="17433"/>
          <a:stretch/>
        </p:blipFill>
        <p:spPr>
          <a:xfrm>
            <a:off x="1117440" y="1700280"/>
            <a:ext cx="6696360" cy="3816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52360" y="566100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滤过压（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0.15kPa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8712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0.15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静水压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心衰、血栓性静脉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血浆胶体渗透压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通透性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过敏、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淋巴液、静脉回流受阻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乳癌切除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3" descr="u=1723607514,2524761795&amp;fm=0&amp;gp=0"/>
          <p:cNvPicPr/>
          <p:nvPr/>
        </p:nvPicPr>
        <p:blipFill>
          <a:blip r:embed="rId1"/>
          <a:stretch/>
        </p:blipFill>
        <p:spPr>
          <a:xfrm>
            <a:off x="5508720" y="3789360"/>
            <a:ext cx="2879640" cy="219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04001"/>
          <p:cNvPicPr/>
          <p:nvPr/>
        </p:nvPicPr>
        <p:blipFill>
          <a:blip r:embed="rId2"/>
          <a:stretch/>
        </p:blipFill>
        <p:spPr>
          <a:xfrm>
            <a:off x="5508720" y="1700280"/>
            <a:ext cx="3236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</a:rPr>
              <a:t>全身性水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(anasarca)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病因（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etiology)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：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心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cardiac edema)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肾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re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肝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hepatic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营养不良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nutritio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其他原因所致：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如黏液性水肿、药物性水肿、经前期紧张综合征、特发性水肿、其他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1080" y="1125360"/>
            <a:ext cx="5975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心源性水肿（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cardiac edema)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→有效循环血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肾血流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淤血→毛细血管滤过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组织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c8de"/>
                </a:solidFill>
                <a:latin typeface="Verdana"/>
              </a:rPr>
              <a:t>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1" name="Picture 4" descr="血液循环"/>
          <p:cNvPicPr/>
          <p:nvPr/>
        </p:nvPicPr>
        <p:blipFill>
          <a:blip r:embed="rId1"/>
          <a:stretch/>
        </p:blipFill>
        <p:spPr>
          <a:xfrm>
            <a:off x="5867280" y="1916280"/>
            <a:ext cx="3191040" cy="4649760"/>
          </a:xfrm>
          <a:prstGeom prst="rect">
            <a:avLst/>
          </a:prstGeom>
          <a:ln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81080" y="1599840"/>
            <a:ext cx="5184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特点：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（重力效应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首先出现于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Verdana"/>
              </a:rPr>
              <a:t>身体下垂部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，活动后明显，休息后减轻或消失（</a:t>
            </a:r>
            <a:r>
              <a:rPr b="0" lang="zh-CN" sz="2000" spc="-1" strike="noStrike">
                <a:solidFill>
                  <a:srgbClr val="d60093"/>
                </a:solidFill>
                <a:latin typeface="Verdana"/>
              </a:rPr>
              <a:t>上行性水肿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水肿为对称性、凹陷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通常伴颈静脉怒张、肝大、静脉压升高，严重时可出现胸水、腹水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3" descr="尿毒症的双足部水肿"/>
          <p:cNvPicPr/>
          <p:nvPr/>
        </p:nvPicPr>
        <p:blipFill>
          <a:blip r:embed="rId1"/>
          <a:stretch/>
        </p:blipFill>
        <p:spPr>
          <a:xfrm>
            <a:off x="5796000" y="1989000"/>
            <a:ext cx="332244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594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肾源性水肿（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renal edema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可见于各型肾炎和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肾小球滤过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蛋白尿→低蛋白血症→血浆胶体渗透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分外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normal 1"/>
          <p:cNvPicPr/>
          <p:nvPr/>
        </p:nvPicPr>
        <p:blipFill>
          <a:blip r:embed="rId1"/>
          <a:stretch/>
        </p:blipFill>
        <p:spPr>
          <a:xfrm>
            <a:off x="5800680" y="3201840"/>
            <a:ext cx="334332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60" name="肾病面容.MPG" descr=""/>
          <p:cNvPicPr/>
          <p:nvPr/>
        </p:nvPicPr>
        <p:blipFill>
          <a:blip r:embed="rId1"/>
          <a:srcRect l="7517" t="1313" r="1074" b="1313"/>
          <a:stretch/>
        </p:blipFill>
        <p:spPr>
          <a:xfrm>
            <a:off x="468360" y="404640"/>
            <a:ext cx="3359160" cy="2749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04801"/>
          <p:cNvPicPr/>
          <p:nvPr/>
        </p:nvPicPr>
        <p:blipFill>
          <a:blip r:embed="rId2"/>
          <a:stretch/>
        </p:blipFill>
        <p:spPr>
          <a:xfrm>
            <a:off x="5594400" y="476280"/>
            <a:ext cx="3549600" cy="2901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3718080"/>
            <a:ext cx="889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特点：（组织结构特点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疾病早期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晨起眼睑与颜面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以后发展为全身水肿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下行性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常有尿常规改变、高血压、肾功能损害的表现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414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隶书"/>
              </a:rPr>
              <a:t>心源性和肾源性水肿的区别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4360" y="1557360"/>
          <a:ext cx="8064360" cy="5032440"/>
        </p:xfrm>
        <a:graphic>
          <a:graphicData uri="http://schemas.openxmlformats.org/drawingml/2006/table">
            <a:tbl>
              <a:tblPr/>
              <a:tblGrid>
                <a:gridCol w="1833480"/>
                <a:gridCol w="3443400"/>
                <a:gridCol w="278748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鉴别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肾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心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开始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脸部开始下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足部开始上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发展快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常迅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较缓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水肿性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软而移动性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比较坚实，移动性较小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9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伴随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其他肾病体征，如蛋白尿、血尿 、高血压、管型尿、眼底改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心功能不全体征，如心脏增大、心杂音、肝大、静脉压升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肝源性水肿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hepatic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见于失代偿期肝硬化</a:t>
            </a:r>
            <a:r>
              <a:rPr b="0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cirrhosis of liver)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门脉高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肝淋巴液回流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继发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4" descr="728da9773912b31b98ab19768618367adbb4e1ae"/>
          <p:cNvPicPr/>
          <p:nvPr/>
        </p:nvPicPr>
        <p:blipFill>
          <a:blip r:embed="rId1"/>
          <a:stretch/>
        </p:blipFill>
        <p:spPr>
          <a:xfrm>
            <a:off x="5697360" y="4183200"/>
            <a:ext cx="3432240" cy="2676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8d5494eef01f3a296295a7ed9925bc315c607cb7"/>
          <p:cNvPicPr/>
          <p:nvPr/>
        </p:nvPicPr>
        <p:blipFill>
          <a:blip r:embed="rId2"/>
          <a:stretch/>
        </p:blipFill>
        <p:spPr>
          <a:xfrm>
            <a:off x="3348000" y="2262240"/>
            <a:ext cx="33116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07" name="Picture 2" descr="200705300916558b21a"/>
          <p:cNvPicPr/>
          <p:nvPr/>
        </p:nvPicPr>
        <p:blipFill>
          <a:blip r:embed="rId1"/>
          <a:stretch/>
        </p:blipFill>
        <p:spPr>
          <a:xfrm>
            <a:off x="250920" y="1268280"/>
            <a:ext cx="4248000" cy="237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200667112923463"/>
          <p:cNvPicPr/>
          <p:nvPr/>
        </p:nvPicPr>
        <p:blipFill>
          <a:blip r:embed="rId2"/>
          <a:stretch/>
        </p:blipFill>
        <p:spPr>
          <a:xfrm>
            <a:off x="5219640" y="3716280"/>
            <a:ext cx="3745080" cy="295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693720" y="431496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10" name="Picture 5" descr="1f614a4a90425b3e08f7ef23"/>
          <p:cNvPicPr/>
          <p:nvPr/>
        </p:nvPicPr>
        <p:blipFill>
          <a:blip r:embed="rId3"/>
          <a:stretch/>
        </p:blipFill>
        <p:spPr>
          <a:xfrm>
            <a:off x="5292720" y="907920"/>
            <a:ext cx="210024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6" descr=""/>
          <p:cNvPicPr/>
          <p:nvPr/>
        </p:nvPicPr>
        <p:blipFill>
          <a:blip r:embed="rId4"/>
          <a:stretch/>
        </p:blipFill>
        <p:spPr>
          <a:xfrm>
            <a:off x="1908000" y="3645000"/>
            <a:ext cx="19875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4038480" y="457200"/>
            <a:ext cx="14464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硬化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5410080" y="1066680"/>
            <a:ext cx="83844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6" name="Line 4"/>
          <p:cNvSpPr/>
          <p:nvPr/>
        </p:nvSpPr>
        <p:spPr>
          <a:xfrm flipH="1">
            <a:off x="2971440" y="1066680"/>
            <a:ext cx="10666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990720" y="1776240"/>
            <a:ext cx="36576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静脉、门静脉受阻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562720" y="1752480"/>
            <a:ext cx="32572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D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醛固酮增高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19810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7772400" y="2514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914400" y="2971800"/>
            <a:ext cx="2743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淋巴、血液渗漏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162920" y="3024360"/>
            <a:ext cx="1654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3" name="Line 11"/>
          <p:cNvSpPr/>
          <p:nvPr/>
        </p:nvSpPr>
        <p:spPr>
          <a:xfrm flipH="1">
            <a:off x="5409720" y="3657600"/>
            <a:ext cx="3124440" cy="2209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343400" y="5767560"/>
            <a:ext cx="1049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腹水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981080" y="3733920"/>
            <a:ext cx="2210040" cy="228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3429000" y="4267080"/>
            <a:ext cx="3200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效循环血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7" name="Line 15"/>
          <p:cNvSpPr/>
          <p:nvPr/>
        </p:nvSpPr>
        <p:spPr>
          <a:xfrm flipV="1">
            <a:off x="4952880" y="3657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4114800" y="3024360"/>
            <a:ext cx="25621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肾血流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58672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0" name="Line 18"/>
          <p:cNvSpPr/>
          <p:nvPr/>
        </p:nvSpPr>
        <p:spPr>
          <a:xfrm flipV="1">
            <a:off x="4876920" y="4952880"/>
            <a:ext cx="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650160" y="457200"/>
            <a:ext cx="9698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*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2" name="Line 20"/>
          <p:cNvSpPr/>
          <p:nvPr/>
        </p:nvSpPr>
        <p:spPr>
          <a:xfrm>
            <a:off x="5486400" y="601992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6908760" y="5759280"/>
            <a:ext cx="14608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低白蛋白血症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95" name="Picture 3" descr="腹水"/>
          <p:cNvPicPr/>
          <p:nvPr/>
        </p:nvPicPr>
        <p:blipFill>
          <a:blip r:embed="rId1"/>
          <a:srcRect l="0" t="0" r="0" b="1142"/>
          <a:stretch/>
        </p:blipFill>
        <p:spPr>
          <a:xfrm>
            <a:off x="1547640" y="981000"/>
            <a:ext cx="6121440" cy="3746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582560" y="4869000"/>
            <a:ext cx="61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主要表现为腹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ascites)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，也可首先出现踝部水肿，渐向上发展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头、面部及上肢常无水肿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营养不良性水肿  </a:t>
            </a: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(nutritional edema)</a:t>
            </a:r>
            <a:br>
              <a:rPr sz="2800"/>
            </a:b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慢性消耗性疾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wasting diseases)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蛋白丢失性肠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protein losing entropath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Times New Roman"/>
              </a:rPr>
              <a:t>长期营养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发生机制：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低蛋白血症使血浆胶体渗透压降低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Verdana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常从疏松处开始，逐渐蔓延全身，足部显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水肿发生前常有消瘦、体重减轻等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Verdana"/>
              </a:rPr>
              <a:t>其他原因的全身性水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黏液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mucous edema)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系由于甲状腺功能低下产生的非凹陷性水肿，颜面和下肢较明显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经前期紧张综合征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特点为月经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7~14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天出现的眼睑、踝部及手部轻度水肿，月经后渐消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药物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pharmaco edema)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可见于糖皮质激素、性激素、胰岛素等治疗中，与水钠潴留有关。以双下肢水肿多见，一般为轻度水肿，停药可消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其他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妊娠中毒症、硬皮病、血清病、血管神经性水肿、老年性水肿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黏液性水肿：见于甲减。常在颜面、眼睑及下肢出现非凹陷性水肿，伴皮肤干燥、毛发脱落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Picture 3" descr="2005122232144"/>
          <p:cNvPicPr/>
          <p:nvPr/>
        </p:nvPicPr>
        <p:blipFill>
          <a:blip r:embed="rId1"/>
          <a:stretch/>
        </p:blipFill>
        <p:spPr>
          <a:xfrm>
            <a:off x="3059280" y="2565360"/>
            <a:ext cx="3095280" cy="340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局部性水肿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oc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病因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毛细血管通透性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permeability)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增加：局部炎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过敏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hypersensitivit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阻塞：血栓性静脉炎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thrombophlebitis)                            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上、下腔静脉阻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淋巴回流受阻：丝虫病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filariasis)</a:t>
            </a: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（象皮肿）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210" name="Picture 3" descr="1163603803.gif"/>
          <p:cNvPicPr/>
          <p:nvPr/>
        </p:nvPicPr>
        <p:blipFill>
          <a:blip r:embed="rId1"/>
          <a:stretch/>
        </p:blipFill>
        <p:spPr>
          <a:xfrm>
            <a:off x="1900080" y="1482840"/>
            <a:ext cx="50468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的临床表现：时间、首发部位及顺序、性质、加重或减轻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对患者的影响：体重、运动、与前负荷增加相关的表现、皮肤水疱溃疡感染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无疾病史或用药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诊断、治疗、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行楷"/>
                <a:ea typeface="华文行楷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900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体液过多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Fluid Volume Excess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皮肤完整性受损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Im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ired Skin 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tegrity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活动无耐力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ctivity Intolerance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潜在并发症：急性肺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66920" y="54450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请补充上述护理诊断的相关因素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目标和基本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8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识记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说出水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阐述水肿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理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用自己的语言解释水肿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全身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局部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运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运用本节所学知识，能针对水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根据护理评估，能正确作出护理诊断，并列出相关因素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85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defini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人体组织间隙有过多的液体积聚从而使组织肿胀 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皮肤紧张发亮、皱纹变浅消失、液体渗出）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分类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(classifica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全身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anasarca)   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隐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atent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局部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ocal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显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frank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积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hydrop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4365720"/>
            <a:ext cx="147600" cy="1152360"/>
          </a:xfrm>
          <a:custGeom>
            <a:avLst/>
            <a:gdLst>
              <a:gd name="textAreaLeft" fmla="*/ 94320 w 147600"/>
              <a:gd name="textAreaRight" fmla="*/ 147960 w 1476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3780000" y="4437000"/>
            <a:ext cx="144360" cy="10098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26" name="Picture 2" descr="0"/>
          <p:cNvPicPr/>
          <p:nvPr/>
        </p:nvPicPr>
        <p:blipFill>
          <a:blip r:embed="rId1"/>
          <a:stretch/>
        </p:blipFill>
        <p:spPr>
          <a:xfrm>
            <a:off x="2484360" y="982800"/>
            <a:ext cx="4176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6480" y="145728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体内外液体交换平衡</a:t>
            </a:r>
            <a:r>
              <a:rPr b="0" lang="en-US" sz="2800" spc="-1" strike="noStrike">
                <a:solidFill>
                  <a:srgbClr val="00ff00"/>
                </a:solidFill>
                <a:latin typeface="宋体"/>
              </a:rPr>
              <a:t>—</a:t>
            </a: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水钠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依赖于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排泄器官正常的结构和功能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体内的容量和渗透压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血管内外液体交换平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取决于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毛细血管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液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血浆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4:16:22Z</dcterms:created>
  <dc:creator>梁辉</dc:creator>
  <dc:description/>
  <cp:keywords/>
  <dc:language>en-US</dc:language>
  <cp:lastModifiedBy>赵欣</cp:lastModifiedBy>
  <cp:lastPrinted>1899-12-30T00:00:00Z</cp:lastPrinted>
  <dcterms:modified xsi:type="dcterms:W3CDTF">2015-12-16T07:33:28Z</dcterms:modified>
  <cp:revision>54</cp:revision>
  <dc:subject/>
  <dc:title>贫血总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